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CCD-412B-409A-8092-41ABEDE4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715-D36E-49A1-89BF-E0C805AC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1FC-B9DE-4858-898D-8BF51276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328-9CDA-4062-AA3E-2276452A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EB4F-4DE3-4EF7-811D-D7EBB778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0555-EA79-4EFC-B5A9-A1AF1147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71B8-B9EC-4CC8-92A5-51CB76EF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7A81-8BA0-4A92-AABC-6A583261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D1AB-28A1-4C08-AFCF-DBD79F05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A77B-E1FA-49F2-857D-9A31B6CE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72B5-8E14-4556-BA18-68CE0684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DAA-3A18-48E7-93C7-F7BBCE80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D9A5-0364-4F0A-9A7E-83789EF4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AC40-2EDA-4361-9092-4B728563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3366-EEBF-479C-BADE-42004F09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5416-B5E3-49CF-A161-19099048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462D-CA85-43A7-945D-EF6E7307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FEE1-9203-4FFC-B42F-1C275C68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B57A-DB62-4A73-B5DB-65E793AC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8B0E-8C3D-455A-9C0C-08AAECD0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116C-D10C-4C6E-A843-E0044FF1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0268-3948-4BD7-8D9F-8F32C848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7AA-C424-44F7-A4DC-0260BB5F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C8927-F119-43AE-B468-D3734557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FE82-28D5-4CEC-80E8-DF1ECD6C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9DF8-8972-4BFE-BCDC-E376DC85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DEDC-BFD9-4DA5-99A5-233A34BA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AF87B-EE7B-49F2-8A9C-B85AF0C3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D4A6D-4830-4DCD-8B5C-78EA600A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8B68-BCCB-44F6-8B85-1026A8D0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9150B-4C1C-431A-B36E-2BE6A96C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6AFB3-0F94-4EE8-AF9B-55B4D942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1CD8D-9E26-44CA-929D-B9EF9C3C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A5E-9B44-4EB8-B066-F54AF54B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CEBCE-D52E-4BFD-959A-04A63DE9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EACD6-2BA0-4C6E-B0CE-7231C453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CFB0C-4C0E-484A-A780-BA0F71F7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4818-9342-486A-B11D-8523C211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1117D-304D-4840-969B-EFEEB9D6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B8CC2-ED93-4B04-883F-9E293BF6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E6EC7-5F71-4A7F-AAE7-AD02157A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2C01A-F75F-42CD-B6D8-30D3257A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2D187-FEA4-46E2-8964-01EF7217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A220C-8050-4D31-B941-61E22504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984-3B3B-4664-8F5F-17286DF5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FF5DF-0635-41A2-8FD9-AC3FDC7E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3ECB6-D9C2-4ED0-BEE2-CDF5ADC5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B8D99-7E2E-4404-8F08-084B340C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AAAA5-56E0-47A9-A956-5164B53E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4544-6895-466D-826C-BA81EDC6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1932-A5A5-4F48-A804-A943C35F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CC09C-852D-41FE-9AAF-BFBF6803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EE2F3-38E2-4CF4-A990-21484CF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95410-1A6D-4021-86B3-52D5C5FC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32A21-3D06-4D9D-A9FA-91BD6A24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F6C-ABFF-403B-BECE-5F2087EB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24475-288D-4819-BEA3-A483AFDC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B8C-9972-4801-B407-0704F6CE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AB4-C543-4B9B-B0B2-C3489FF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608-A357-47C1-924D-27E97D25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44D1-9D8D-4259-99D5-D78568BA9F3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830E-7DA4-40E4-AF6C-E202C9AD0172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271A-25FA-425D-A954-CE0561E2F26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DD93-7CE2-44F0-AC2B-FD393B5B8CE0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5460-E87D-4FCB-89C3-92A42AF5A5C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4/4d/Knossos_bull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pload.wikimedia.org/wikipedia/commons/f/fc/CorridaTorosDesfile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essica Pugnali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Katherine B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a gran parte de la cultura de España, México, y otros país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 modo en que personas pueden hacer más dinero para mejorar la economía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normalmente vive solo un año antes que es matado para carne pero si es parte de la corrida de los toros puede vivir por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es tratado con respecto y bondad durante los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http://2.bp.blogspot.com/_XVvZjrHolXE/Sy-1llJSvjI/AAAAAAAAB4M/vIkFSD4xxWc/s400/toro.jpg"/>
          <p:cNvPicPr/>
          <p:nvPr/>
        </p:nvPicPr>
        <p:blipFill>
          <a:blip r:embed="rId2"/>
          <a:stretch/>
        </p:blipFill>
        <p:spPr>
          <a:xfrm>
            <a:off x="4800600" y="4419720"/>
            <a:ext cx="2857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 con es que el deporte es muy fatal para los tor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tro es que antes de las carreras los toros están en un corral que no tiene ni luz del día, los toros están sin comida y sin agua. 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os matadores usualmente salen de la carreras con daño fiscal en sus cuerp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http://entrenomadas.files.wordpress.com/2007/09/corridas_toros_nomastortura1.jpg"/>
          <p:cNvPicPr/>
          <p:nvPr/>
        </p:nvPicPr>
        <p:blipFill>
          <a:blip r:embed="rId2"/>
          <a:stretch/>
        </p:blipFill>
        <p:spPr>
          <a:xfrm>
            <a:off x="3733920" y="44197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Tauromaquia” es otra palabra para el toreo que ocurre en países españole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Esa actividad tiene antecedentes desde la “Edad de Bronce” y se ha desarrollado en una forma de demonstración de valentí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Desde el siglo XX el toreo es mas que solo una lucha contra el matador y el toro. Es la crianza y el conocimiento de los toros desde que son ni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3" descr="Archivo:Knossos bu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572000"/>
            <a:ext cx="3618000" cy="18288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572000" y="472428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El arte del toreo en los tiempos donde acróbatas “danzaban” con los toros en parte de la corrida de los to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Tiene dos tipos de corrida de toros: de toreros de pie y de toreros a caballo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La corrida es separada en tres part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1. El toro es lidiado por los picadores (ellos usan una vara con una puya para castigar el toro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2. Después es lidiado por los banderilleros (bregan al toro y adornan al toro colocando pares de banderillas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3. Finalmente, es lidiado por el torero ayudando con la “muleta” y el “ayudado” que es una espada de madera o de aluminio que sostiene con la mano derech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Content Placeholder 3" descr="Archivo:CorridaTorosDesfi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523880"/>
            <a:ext cx="6705720" cy="4267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609480" y="6095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Final de paseíllo en una corrida de tor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Madrid se encuentra en el centro de la Península Ibérica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El río principal que se encuentra en Madrid es el Río Manzanar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La montaña mas alta en Madrid es la Peñalara con una altura de 2428 metro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Madrid siempre he estado ocupado desde los tiempos prehistórico y todavía hay restos arqueológico de pueblos peque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En 1383 León VI de Armenia, le dieron el titulo de Señor de Madrid por el Rey John I de Castill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espués de muchos anos y la guerra de independencia, Fernanda VII vino para atrás para su tron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urante el dictadura de Francisco Franco, muchas de las cosas en Madrid fueron industrializada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Y en 2004 Madrid fue dado por un ataque terrorista, cuando los terroristas pusieron muchas bombas en muchos trenes durante la hora la mayor tráfic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0:25:50Z</dcterms:created>
  <dc:creator>Mike</dc:creator>
  <dc:description/>
  <dc:language>en-US</dc:language>
  <cp:lastModifiedBy>Mike</cp:lastModifiedBy>
  <dcterms:modified xsi:type="dcterms:W3CDTF">2010-03-28T12:29:24Z</dcterms:modified>
  <cp:revision>9</cp:revision>
  <dc:subject/>
  <dc:title>¡La Fiesta brava!</dc:title>
</cp:coreProperties>
</file>