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C64D-C263-4BC6-9511-E8C9A2FE7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F2D54-4544-4B3F-A2B1-CCB191097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CBD4-5AEF-4B2B-B33C-0003DC684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F53-C97D-46A7-B0CA-0A2D9C5C9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66DB-0935-4A5C-9F49-1C9311F5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1ACAB-A204-44DD-B830-BA2261394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23437-C68F-47EA-AC18-FE673AD3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4B73-55BE-42A4-AA50-83295583D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FE440-B86F-463C-8D2A-6D1361645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32F4-CF20-4EEB-AD3E-53BA57FF2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E3F38-947E-4A77-AB47-818A686EF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CB07-246C-4420-A19B-48FFEDAD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BCC8-DCF8-466D-BA0F-6D104B88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24BA-D4E6-4B58-ADA0-A47E2FCC4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18A5C-9CD1-46DC-8E40-4A12B9611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FD9B9-F5D4-4C31-8EC1-A2367521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DE97C-AF32-41B1-BA8C-D5C27BBFE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336D9-ED83-4B03-8565-8024B413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DE6F7-57DF-421F-9ED1-6F063604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45A23-4C2C-4EB9-9979-8AD9BE23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2CF77-362F-4BD1-BB27-38EDFFF5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0900C-01B4-4670-8EFA-1AEB47BD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1F6A-8FBB-4239-A6CD-9FD7F059D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A4994-F7DB-475A-956F-B4A1A321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EB19C-0CCD-4B72-8B83-12EE2269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99DC81-4D99-4B01-AB6D-6DDCDEF00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0EA0C-898E-4893-96CF-76E8746CB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FEC30-D2A8-41CD-88A3-E0CF55BA8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394AE-1171-427C-A0C3-A0394AE15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5718-C8D5-470A-A624-7BF8019F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7F3B5E-A316-4A94-8D61-7799F2244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04238-FD6D-46E3-8AFB-8362A97A0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32A0D-8187-40CD-8E0C-9B24917B8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0A93-2F0E-4835-BA54-6AD41582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C4F470-1674-4CA5-8F1C-F6179CF54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CEA6F-FEED-4117-B0EE-E8E73CBA8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92DE3-269C-44E6-B661-8C83F8FA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26AD3-4DE3-4851-B50E-D0B8EBBC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14FF65-85D7-4A2A-ACF7-74C82BBF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FF274-7EB1-4AB2-A618-EEC313D4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C6D14-B663-4C7E-9F71-39E566EF5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5D3D0-CA92-48B0-BF71-F10F80080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61387-59BC-4092-B3A7-BEF11A89A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8C565-471F-4AA3-9630-202060067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5618-BDC9-40ED-B435-3451B51BC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A4924-46E2-4762-9591-CE370AA43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14768-1906-421E-99A1-1C6D30BB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67746-C00A-401D-9677-89AE8419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D7F8B-65DE-4D41-8053-3189121D1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9C5403-CE9E-40F3-B7C4-22DBA9D43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627143-41B9-484D-B5CC-F3C5BE24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8C053E-F20D-4E03-9D46-B65BFBF0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61A37-7385-4E7A-B884-86D5A41D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D7A82-FEAC-4F1C-991B-BD9F4C7E0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83D14-D21E-4CF3-BE01-127313D15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01A0-DE51-436D-964E-F459AF6E9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DA001-705B-4B04-B743-93D6D95FD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040E-DB6A-44EB-BA9D-A323AC2F2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93D3-4612-4EED-8DF3-BA29F09B0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3762-3235-4464-91C7-2878C669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67C4C-D393-48A3-B05A-2EF5B0D5AF03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B7FB7-0C26-451E-94EA-46906B76C626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3FB65-758D-4C6B-8D7D-F42703B12AA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83A6-3040-4460-AB7E-C3F76EEA56D0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65DA-F597-42E7-8CCC-3E7B6C15EFC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pload.wikimedia.org/wikipedia/commons/4/4d/Knossos_bull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upload.wikimedia.org/wikipedia/commons/f/fc/CorridaTorosDesfile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Jessica Pugnali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Katherine B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una gran parte de la cultura de España, México, y otros país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un modo en que personas pueden hacer más dinero para mejorar la economía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toro normalmente vive solo un año antes que es matado para carne pero si es parte de la corrida de los toros puede vivir por 4-5 añ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toro es tratado con respecto y bondad durante los 4-5 añ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3" descr="http://2.bp.blogspot.com/_XVvZjrHolXE/Sy-1llJSvjI/AAAAAAAAB4M/vIkFSD4xxWc/s400/toro.jpg"/>
          <p:cNvPicPr/>
          <p:nvPr/>
        </p:nvPicPr>
        <p:blipFill>
          <a:blip r:embed="rId2"/>
          <a:stretch/>
        </p:blipFill>
        <p:spPr>
          <a:xfrm>
            <a:off x="4800600" y="4419720"/>
            <a:ext cx="2857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Un con es que el deporte es muy fatal para los tor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tro es que antes de las carreras los toros están en un corral que no tiene ni luz del día, los toros están sin comida y sin agua. 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os matadores usualmente salen de la carreras con daño fiscal en sus cuerp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3" descr="http://entrenomadas.files.wordpress.com/2007/09/corridas_toros_nomastortura1.jpg"/>
          <p:cNvPicPr/>
          <p:nvPr/>
        </p:nvPicPr>
        <p:blipFill>
          <a:blip r:embed="rId2"/>
          <a:stretch/>
        </p:blipFill>
        <p:spPr>
          <a:xfrm>
            <a:off x="3733920" y="44197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Tauromaquia” es otra palabra para el toreo que ocurre en países españole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Esa actividad tiene antecedentes desde la “Edad de Bronce” y se ha desarrollado en una forma de demonstración de valentí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Desde el siglo XX el toreo es mas que solo una lucha contra el matador y el toro. Es la crianza y el conocimiento de los toros desde que son niño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3" descr="Archivo:Knossos bu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572000"/>
            <a:ext cx="3618000" cy="18288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572000" y="472428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1800" spc="-1" strike="noStrike">
                <a:solidFill>
                  <a:srgbClr val="000000"/>
                </a:solidFill>
                <a:latin typeface="Trebuchet MS"/>
              </a:rPr>
              <a:t>El arte del toreo en los tiempos donde acróbatas “danzaban” con los toros en parte de la corrida de los to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Trebuchet MS"/>
              </a:rPr>
              <a:t>Tiene dos tipos de corrida de toros: de toreros de pie y de toreros a caballo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Trebuchet MS"/>
              </a:rPr>
              <a:t>La corrida es separada en tres part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1. El toro es lidiado por los picadores (ellos usan una vara con una puya para castigar el toro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2. Después es lidiado por los banderilleros (bregan al toro y adornan al toro colocando pares de banderillas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3. Finalmente, es lidiado por el torero ayudando con la “muleta” y el “ayudado” que es una espada de madera o de aluminio que sostiene con la mano derech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Content Placeholder 3" descr="Archivo:CorridaTorosDesfi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523880"/>
            <a:ext cx="6705720" cy="4267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609480" y="60958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1800" spc="-1" strike="noStrike">
                <a:solidFill>
                  <a:srgbClr val="000000"/>
                </a:solidFill>
                <a:latin typeface="Trebuchet MS"/>
              </a:rPr>
              <a:t>Final de paseíllo en una corrida de tor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Madrid se encuentra en el centro de la Península Ibérica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El río principal que se encuentra en Madrid es el Río Manzanar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La montaña mas alta en Madrid es la Peñalara con una altura de 2428 metro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Madrid siempre he estado ocupado desde los tiempos prehistórico y todavía hay restos arqueológico de pueblos pequeño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En 1383 León VI de Armenia, le dieron el titulo de Señor de Madrid por el Rey John I de Castill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Después de muchos anos y la guerra de independencia, Fernanda VII vino para atrás para su tron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Durante el dictadura de Francisco Franco, muchas de las cosas en Madrid fueron industrializada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Y en 2004 Madrid fue dado por un ataque terrorista, cuando los terroristas pusieron muchas bombas en muchos trenes durante la hora la mayor tráfic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0:25:50Z</dcterms:created>
  <dc:creator>Mike</dc:creator>
  <dc:description/>
  <dc:language>en-US</dc:language>
  <cp:lastModifiedBy>Mike</cp:lastModifiedBy>
  <dcterms:modified xsi:type="dcterms:W3CDTF">2010-03-28T12:29:24Z</dcterms:modified>
  <cp:revision>9</cp:revision>
  <dc:subject/>
  <dc:title>¡La Fiesta brava!</dc:title>
</cp:coreProperties>
</file>