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2532B-0F56-49E1-B8CD-830C95B2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1E93-15C9-4CC1-8926-5D82548A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5704-7738-4AEC-B0CC-8905E96FB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95A7-77D9-4CB5-A04F-5EAE3078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93C7-8560-427B-AA94-B8FE7602B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BDB88-E102-4C07-B25D-D63C2869A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15A56-0CC4-47F0-B446-64B6217A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3786-10C5-43D6-8CB7-D294D865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D3CF-9975-4752-BAC2-3284D407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F57B-B762-4196-8965-CBD4F7F1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54AB3-B5DD-4023-988D-15341D095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4D01-FEBB-41E1-8332-08128CC92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6570F-D1AE-4D9A-8675-6A156C05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5AA4-84FC-4E8A-9F4B-12EB54195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2D234-444C-4A23-80F6-935153F0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3550-CA9E-4D06-A918-396650176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FE00-4B5B-488D-A132-7B0883AA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197C4A-CDDB-4335-A323-5CE2C4B8F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511446-FB18-47E3-AF26-A3CCCA9D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BD0471-CC50-4037-B045-8774D2ADC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CCA6D-4D28-4E6B-8D4C-548FD34E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C32D48-AB99-4181-9A93-75FAC2F4D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CD8E4-3C50-462B-B480-C1ABA898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BFC966-32C1-4013-AEFE-992E827F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F790B-24B8-4A42-B86C-2996D3001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C746-3705-4C93-A161-563819878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0C2D-9F38-4CE3-B0A5-E5455BD23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AC2F1C-78E9-44EC-B847-ABACC19F9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DDEBE-5275-4ADD-93ED-16F6B358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34B7-8C5A-47F8-A2C7-141BDBCBB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AEC4F-7D4C-4C01-B8CD-91E5D4421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F5328-25C7-4193-8CB6-F13B6D04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C19B98-C7CB-4810-B04B-C58D08A8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BE70-0C46-4631-B827-9C0A70C85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AC72B1-5C51-420E-B8BF-84DB8C5F0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939656-4105-4FAC-8720-BBCB31916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FBFC6-E415-4F06-99C6-680BC69F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3E2B9-9C04-4570-B606-ACDD1574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627AA-4526-4277-9191-02A6A7F4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CDC13-114A-45F3-84A8-9AC532808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E8243-D0D5-4939-9931-3C50AE4BC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E495B-8C7C-4C7A-A2E5-594C2CF87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DF180-E573-461E-9B42-B106AB382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BFCFF-D0B8-4B54-86EC-3DBE27969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97E4-86A4-4B45-9BB3-AD764FBE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67B33-C267-4A80-8AB8-69D31D4E8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59EC0-21F1-42DD-9742-831E1261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DD58B-ECFB-4C29-BEF2-B318446A5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8B89D-3AC2-438C-977E-50171C050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D36B5-4280-44F2-8CFE-897C925B5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D9680-127B-4954-BA5C-1A830A42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2C166A-A3B5-41D5-A096-4BF8D5F8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48F0B-3828-4FCA-B1BA-74822C7CA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D379A3-CCCD-4B99-832B-1825C38B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F4536-A68E-4AE1-94C3-73DFFB78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8B56-2F6F-4B7B-87A0-44984F51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1A847-A379-472E-8F85-0C043C9DB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D92-748B-41B3-A59F-F93FCF13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73595-0438-42EF-A224-AFC682BD3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D121-EB46-4150-AE82-963D2B6C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D63BF-28FF-405D-85A9-2D0F14641481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BE24-F667-4A21-B4AA-111A48AF7204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593C6-6C8F-41E4-BBE4-ECE422C881D0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515D2-B42F-421F-98DA-5DAFEF5EA41C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9DD4-1838-4F54-AE10-EE0B709C795C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d/Knossos_bul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pload.wikimedia.org/wikipedia/commons/f/fc/CorridaTorosDesfile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ssica Pugnali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atherine B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a gran parte de la cultura de España, México, y otros país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 modo en que personas pueden hacer más dinero para mejorar la economía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normalmente vive solo un año antes que es matado para carne pero si es parte de la corrida de los toros puede vivir por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es tratado con respecto y bondad durante los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http://2.bp.blogspot.com/_XVvZjrHolXE/Sy-1llJSvjI/AAAAAAAAB4M/vIkFSD4xxWc/s400/toro.jpg"/>
          <p:cNvPicPr/>
          <p:nvPr/>
        </p:nvPicPr>
        <p:blipFill>
          <a:blip r:embed="rId2"/>
          <a:stretch/>
        </p:blipFill>
        <p:spPr>
          <a:xfrm>
            <a:off x="4800600" y="441972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 con es que el deporte es muy fatal para los tor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tro es que antes de las carreras los toros están en un corral que no tiene ni luz del día, los toros están sin comida y sin agua. 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matadores usualmente salen de la carreras con daño fiscal en sus cuerp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http://entrenomadas.files.wordpress.com/2007/09/corridas_toros_nomastortura1.jpg"/>
          <p:cNvPicPr/>
          <p:nvPr/>
        </p:nvPicPr>
        <p:blipFill>
          <a:blip r:embed="rId2"/>
          <a:stretch/>
        </p:blipFill>
        <p:spPr>
          <a:xfrm>
            <a:off x="3733920" y="4419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Tauromaquia” es otra palabra para el toreo que ocurre en países español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Esa actividad tiene antecedentes desde la “Edad de Bronce” y se ha desarrollado en una forma de demonstración de valentí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Desde el siglo XX el toreo es mas que solo una lucha contra el matador y el toro. Es la crianza y el conocimiento de los toros desde que son ni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Archivo:Knossos b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361800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572000" y="47242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El arte del toreo en los tiempos donde acróbatas “danzaban” con los toros en parte de la corrida de los to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Tiene dos tipos de corrida de toros: de toreros de pie y de toreros a caball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La corrida es separada en tres part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1. El toro es lidiado por los picadores (ellos usan una vara con una puya para castigar el tor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2. Después es lidiado por los banderilleros (bregan al toro y adornan al toro colocando pares de banderillas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3. Finalmente, es lidiado por el torero ayudando con la “muleta” y el “ayudado” que es una espada de madera o de aluminio que sostiene con la mano derech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Content Placeholder 3" descr="Archivo:CorridaTorosDesf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5238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6094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Final de paseíllo en una corrida de to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Madrid se encuentra en el centro de la Península Ibéric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El río principal que se encuentra en Madrid es el Río Manzana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La montaña mas alta en Madrid es la Peñalara con una altura de 2428 metr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Madrid siempre he estado ocupado desde los tiempos prehistórico y todavía hay restos arqueológico de pueblos peque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En 1383 León VI de Armenia, le dieron el titulo de Señor de Madrid por el Rey John I de Castill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espués de muchos anos y la guerra de independencia, Fernanda VII vino para atrás para su tron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urante el dictadura de Francisco Franco, muchas de las cosas en Madrid fueron industrializada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Y en 2004 Madrid fue dado por un ataque terrorista, cuando los terroristas pusieron muchas bombas en muchos trenes durante la hora la mayor tráfic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0:25:50Z</dcterms:created>
  <dc:creator>Mike</dc:creator>
  <dc:description/>
  <dc:language>en-US</dc:language>
  <cp:lastModifiedBy>Mike</cp:lastModifiedBy>
  <dcterms:modified xsi:type="dcterms:W3CDTF">2010-03-28T12:29:24Z</dcterms:modified>
  <cp:revision>9</cp:revision>
  <dc:subject/>
  <dc:title>¡La Fiesta brava!</dc:title>
</cp:coreProperties>
</file>