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F84-A2EB-4D62-9E81-F09B592E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E89-91A9-48E7-98B6-9CFABBF0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2AB-DDFA-4CF3-93DB-9B3D4339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699-441E-4167-B9E3-E8ECEAAF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A96-2821-4C1A-B8AE-3F589138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9DBF-4C51-4C19-B966-7624F3C7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CEE9-A340-4FEA-9FBE-0684C177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7EEF-67CE-4DEB-8F7E-81D90D1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19AB-EB33-4984-99A1-3B7BA32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0862-26DA-40EC-BEEA-ADCF7F8B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73A2-D7A8-4281-8230-7FD2B89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CAA-8DE6-4B0F-B283-D91F9DEB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D64B-B525-4151-B184-DEC6CC79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2A4E-F410-487C-9600-B0AB943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B519-1601-460C-9D55-D34E021D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4746-B2F7-41A4-BDCC-69CAC00A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A654-B7BA-42B0-844E-67DF1876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C375-2D94-4BEE-B719-0EFBCE3D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E0D7-4168-46D4-A7C0-D69986C3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6D58-CF36-4336-9858-D055BBB7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2185-A3FB-460D-B411-64BD0028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D8AF-C525-4FF2-A8A4-4FD3FDA0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93F-DACC-489E-A47F-99CFA457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AC17-B96C-4BBA-B322-F22E08D8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0E382-E320-40FD-8CB1-11100C9E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BD79-3025-434E-9EC7-067CE41D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D106-3231-44CC-8EF9-50F1BB4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AD92-5E18-4ADB-A57C-4859A71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B25F-1610-44E4-AFE4-A3722D53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2FAF-102B-4ACB-B39D-32ABD990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C364-EDA4-4C20-A53E-5EC9E21B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FAAE-32FB-4B03-9AE6-A2507562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9A758-AD64-40F9-8176-8A2BE1EC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2D2-7728-4A90-BCC4-5FB48C1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04340-EF84-480E-AE89-0BEE282A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84CEB-87C1-4B50-B126-BEF5D7E2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A10C-2783-4BB0-A7B9-CB78E5BF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360D-6E72-4213-AF96-6856F0DC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ECC4-A7F9-4FF7-BFE0-FB739B4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EF4A7-B279-49E7-90CB-DE445CDF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FFE0-4C80-4743-A4DD-E4DE7A84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558BC-A984-43D7-A2AF-C667E572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70F3F-2649-433B-AE2F-216682D7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CB2E7-4D70-475C-AEF2-1F5EE379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61E-37D6-4D8D-ADE4-96AFA381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A7B5D-3D04-4DB8-AF42-4872783D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67383-2DA0-45DF-B835-DBFE3687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DEC87-E99C-4553-8355-FEE3D140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897E-F877-4FDF-B673-DD1D40D9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02DA-99A8-45C4-ADA9-1D767C17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6AD75-68F7-490E-B81C-022EC337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BF1C9-B929-44CC-932B-1C18D9B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E5BED-E0F8-4B05-9CDB-ED097A4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3E628-2C85-4AF5-B27E-BDCC1598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A2D8-12FF-4AF1-9ED2-626EBF7D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0C9-3B32-424A-921C-DCADE04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2EB22-B8A2-4C0E-A361-90C02BD1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D6F-501D-42CE-9B2D-45AF0FED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0A5-55EE-4678-B660-55E82D8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317-969B-4316-8F66-E9318B52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B42F-D3EF-4091-A608-B22681DDE99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3C7F-A668-4FDC-8926-330658DDF27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B704-984A-41DC-9CC1-F7EB858E2FA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4B3-D216-408B-8791-AE0B8D983694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6695-77A3-45E1-9F87-84A1AE3A2E5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d/Knossos_bul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pload.wikimedia.org/wikipedia/commons/f/fc/CorridaTorosDesfile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ssica Pugnal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atherine B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a gran parte de la cultura de España, México, y otros país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 modo en que personas pueden hacer más dinero para mejorar la economí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normalmente vive solo un año antes que es matado para carne pero si es parte de la corrida de los toros puede vivir por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es tratado con respecto y bondad durante los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http://2.bp.blogspot.com/_XVvZjrHolXE/Sy-1llJSvjI/AAAAAAAAB4M/vIkFSD4xxWc/s400/toro.jpg"/>
          <p:cNvPicPr/>
          <p:nvPr/>
        </p:nvPicPr>
        <p:blipFill>
          <a:blip r:embed="rId2"/>
          <a:stretch/>
        </p:blipFill>
        <p:spPr>
          <a:xfrm>
            <a:off x="4800600" y="441972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con es que el deporte es muy fatal para los tor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tro es que antes de las carreras los toros están en un corral que no tiene ni luz del día, los toros están sin comida y sin agua. 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matadores usualmente salen de la carreras con daño fiscal en sus cuerp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http://entrenomadas.files.wordpress.com/2007/09/corridas_toros_nomastortura1.jpg"/>
          <p:cNvPicPr/>
          <p:nvPr/>
        </p:nvPicPr>
        <p:blipFill>
          <a:blip r:embed="rId2"/>
          <a:stretch/>
        </p:blipFill>
        <p:spPr>
          <a:xfrm>
            <a:off x="3733920" y="4419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Tauromaquia” es otra palabra para el toreo que ocurre en países español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Esa actividad tiene antecedentes desde la “Edad de Bronce” y se ha desarrollado en una forma de demonstración de valentí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Desde el siglo XX el toreo es mas que solo una lucha contra el matador y el toro. Es la crianza y el conocimiento de los toros desde que son ni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Archivo:Knossos b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361800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572000" y="4724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El arte del toreo en los tiempos donde acróbatas “danzaban” con los toros en parte de la corrida de los to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Tiene dos tipos de corrida de toros: de toreros de pie y de toreros a caball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La corrida es separada en tres part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1. El toro es lidiado por los picadores (ellos usan una vara con una puya para castigar el tor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2. Después es lidiado por los banderilleros (bregan al toro y adornan al toro colocando pares de banderillas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3. Finalmente, es lidiado por el torero ayudando con la “muleta” y el “ayudado” que es una espada de madera o de aluminio que sostiene con la mano derech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Archivo:CorridaTorosDesf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6094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Final de paseíllo en una corrida de to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Madrid se encuentra en el centro de la Península Ibéric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El río principal que se encuentra en Madrid es el Río Manzan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La montaña mas alta en Madrid es la Peñalara con una altura de 2428 metr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Madrid siempre he estado ocupado desde los tiempos prehistórico y todavía hay restos arqueológico de pueblos peque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En 1383 León VI de Armenia, le dieron el titulo de Señor de Madrid por el Rey John I de Castill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espués de muchos anos y la guerra de independencia, Fernanda VII vino para atrás para su tron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urante el dictadura de Francisco Franco, muchas de las cosas en Madrid fueron industrializada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Y en 2004 Madrid fue dado por un ataque terrorista, cuando los terroristas pusieron muchas bombas en muchos trenes durante la hora la mayor tráfic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0:25:50Z</dcterms:created>
  <dc:creator>Mike</dc:creator>
  <dc:description/>
  <dc:language>en-US</dc:language>
  <cp:lastModifiedBy>Mike</cp:lastModifiedBy>
  <dcterms:modified xsi:type="dcterms:W3CDTF">2010-03-28T12:29:24Z</dcterms:modified>
  <cp:revision>9</cp:revision>
  <dc:subject/>
  <dc:title>¡La Fiesta brava!</dc:title>
</cp:coreProperties>
</file>