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13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4E6A-29DC-46A6-9483-119822EA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81B-8691-44B0-97F9-3CF45B044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79BC0-A497-4FEF-97F4-7C78F02F3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7D733-A793-41BB-9516-6D77F66E8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DF34-0FE9-4883-8C2B-5F90204C9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7165F-E1B4-4E89-8D76-6E164B41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0135-21F7-4D16-92DE-04680666B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E8841-D378-4D83-A6EB-C3773B19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4EF2B-8276-47F2-B839-FB4C24843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57BB-EB8D-4D76-B190-270B920E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03D9-7897-4898-B8EB-26258574B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D924-CFC0-4609-A1A6-B676D098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C0C1-688D-4B82-95BD-8D5172AA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E5100-AD8E-4F28-8A5B-F86609D9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FE9A4-BFDE-4D34-B4A8-4A478265E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F7910-0547-45CE-8AB0-31047C7FC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77EB-CBEE-43AB-B060-11D7F1EF1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52FE-9DE1-486C-A819-DEA72D87A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71E87-FA7A-4E10-8236-738C37874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7098A-5CF8-4D07-BC11-A42F605C1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94715-FFBC-4C17-BB93-CD4EA220F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5F18F-A947-4B78-B9B9-063B74AEA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CD53-8CB4-4430-98BE-FA0E7EB72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4748B-A5EF-4AEB-9495-CAD9732CC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506F7-140A-43F5-878E-7C239DBC3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2BDBB-532B-4722-81EF-75E87907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4071-7379-4657-81E2-B4AE217E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0983-EB8A-4310-AD3D-FE134A8EA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1629B1-64E0-4B54-B6C0-6AFF26764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8112-7925-4576-B303-A84941A6E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3B1CA-2E4C-4165-9521-1C4019918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7EAF4-08FF-44A8-8FA5-D7C3F653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8675-43ED-4870-9BF2-A6F1D757F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2774-3EBB-45ED-B883-D4364A12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4E73F6-6E8A-47BB-93ED-9D3E3732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7985FA-5497-43A9-A56C-66290338A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F1044-407D-4632-9338-117B5A6C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17D12-B59B-4EBD-98BF-6F7A6FE6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91F00-B4C1-4894-8869-65BB80C78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4C0E3-9E8E-4FD9-8D8C-C1458E6B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CBF3-7D52-4EE4-B909-FF57ECF3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CECBA-25E1-40C9-89FB-B754F39ED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4E6FB3-2CAE-4D1C-8BDF-7FC3AFFFC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8E0EB-87FC-4D8E-9A5F-A39709544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7608-5251-4508-8BBE-22C38BEC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C6E91-3A10-4536-8400-5E68C4E1E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BAFE2-CDD2-4965-BF7B-BB6F711F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CE97A7-D965-4B43-8720-BA8A03CC6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183BBB-E0E9-4A41-AAB5-7CDBBD50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65E82-965D-44BB-80EC-8A870BF37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67DBB-C24F-48D6-8268-F65197798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7341A1-2CCF-4AA4-AEC8-8C448ECFE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BACCA0-E0A4-4A9C-B13F-D1D30363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6A8B9-07FD-4AB1-AAFC-BEB6AAA2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65BB8-3EF8-4E5E-9CAF-ABDD5E80D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7A14-A31B-482F-BCF1-C9D21631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5D51A8-A81E-439B-983D-4B9834E25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B077-1EC6-48EF-AACA-BCC61E3B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A8A2-A53F-4D2A-B3A9-52E47B539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2C41-C8B9-45F9-9DB1-C038B61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20138-1598-4F0E-97A5-A5FDFB201952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Straight Connector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373B-1B28-41C1-ADE1-5BA23A49AF56}" type="slidenum">
              <a:rPr b="0" lang="en-US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68FA6-E78A-4FF4-9926-538E639036A4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A2B37-B3C1-48AC-9B67-3E5D3DBD8D11}" type="slidenum">
              <a:rPr b="0" lang="en-US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DC36-0A02-40D0-A42F-9631424AA26D}" type="slidenum">
              <a:rPr b="0" lang="en-US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upload.wikimedia.org/wikipedia/commons/4/4d/Knossos_bull.jpg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upload.wikimedia.org/wikipedia/commons/f/fc/CorridaTorosDesfile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59160" y="530280"/>
            <a:ext cx="5394240" cy="287820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Jessica Pugnali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Y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Katherine Battle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a gran parte de la cultura de España, México, y otros paíse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s un modo en que personas pueden hacer más dinero para mejorar la economía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normalmente vive solo un año antes que es matado para carne pero si es parte de la corrida de los toros puede vivir por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rebuchet MS"/>
              </a:rPr>
              <a:t>El toro es tratado con respecto y bondad durante los 4-5 años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3" descr="http://2.bp.blogspot.com/_XVvZjrHolXE/Sy-1llJSvjI/AAAAAAAAB4M/vIkFSD4xxWc/s400/toro.jpg"/>
          <p:cNvPicPr/>
          <p:nvPr/>
        </p:nvPicPr>
        <p:blipFill>
          <a:blip r:embed="rId2"/>
          <a:stretch/>
        </p:blipFill>
        <p:spPr>
          <a:xfrm>
            <a:off x="4800600" y="4419720"/>
            <a:ext cx="2857680" cy="21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Un con es que el deporte es muy fatal para los tor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Otro es que antes de las carreras los toros están en un corral que no tiene ni luz del día, los toros están sin comida y sin agua.  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rebuchet MS"/>
              </a:rPr>
              <a:t>Los matadores usualmente salen de la carreras con daño fiscal en sus cuerpos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Picture 3" descr="http://entrenomadas.files.wordpress.com/2007/09/corridas_toros_nomastortura1.jpg"/>
          <p:cNvPicPr/>
          <p:nvPr/>
        </p:nvPicPr>
        <p:blipFill>
          <a:blip r:embed="rId2"/>
          <a:stretch/>
        </p:blipFill>
        <p:spPr>
          <a:xfrm>
            <a:off x="3733920" y="4419720"/>
            <a:ext cx="3809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298440"/>
            <a:ext cx="7493040" cy="115884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“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Tauromaquia” es otra palabra para el toreo que ocurre en países españoles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Esa actividad tiene antecedentes desde la “Edad de Bronce” y se ha desarrollado en una forma de demonstración de valentí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Desde el siglo XX el toreo es mas que solo una lucha contra el matador y el toro. Es la crianza y el conocimiento de los toros desde que son ni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Picture 3" descr="Archivo:Knossos bul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3618000" cy="1828800"/>
          </a:xfrm>
          <a:prstGeom prst="rect">
            <a:avLst/>
          </a:prstGeom>
          <a:ln w="0">
            <a:noFill/>
          </a:ln>
        </p:spPr>
      </p:pic>
      <p:sp>
        <p:nvSpPr>
          <p:cNvPr id="231" name="TextBox 4"/>
          <p:cNvSpPr/>
          <p:nvPr/>
        </p:nvSpPr>
        <p:spPr>
          <a:xfrm>
            <a:off x="4572000" y="4724280"/>
            <a:ext cx="327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El arte del toreo en los tiempos donde acróbatas “danzaban” con los toros en parte de la corrida de los tor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Tiene dos tipos de corrida de toros: de toreros de pie y de toreros a caballo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600" spc="-1" strike="noStrike">
                <a:solidFill>
                  <a:srgbClr val="000000"/>
                </a:solidFill>
                <a:latin typeface="Trebuchet MS"/>
              </a:rPr>
              <a:t>La corrida es separada en tres partes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1. El toro es lidiado por los picadores (ellos usan una vara con una puya para castigar el toro)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  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2. Después es lidiado por los banderilleros (bregan al toro y adornan al toro colocando pares de banderillas)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s-US" sz="2200" spc="-1" strike="noStrike">
                <a:solidFill>
                  <a:srgbClr val="000000"/>
                </a:solidFill>
                <a:latin typeface="Trebuchet MS"/>
              </a:rPr>
              <a:t>3. Finalmente, es lidiado por el torero ayudando con la “muleta” y el “ayudado” que es una espada de madera o de aluminio que sostiene con la mano derecha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pic>
        <p:nvPicPr>
          <p:cNvPr id="235" name="Content Placeholder 3" descr="Archivo:CorridaTorosDesfile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480" y="1523880"/>
            <a:ext cx="6705720" cy="4267440"/>
          </a:xfrm>
          <a:prstGeom prst="rect">
            <a:avLst/>
          </a:prstGeom>
          <a:ln w="0">
            <a:noFill/>
          </a:ln>
        </p:spPr>
      </p:pic>
      <p:sp>
        <p:nvSpPr>
          <p:cNvPr id="236" name="TextBox 6"/>
          <p:cNvSpPr/>
          <p:nvPr/>
        </p:nvSpPr>
        <p:spPr>
          <a:xfrm>
            <a:off x="609480" y="6095880"/>
            <a:ext cx="678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1800" spc="-1" strike="noStrike">
                <a:solidFill>
                  <a:srgbClr val="000000"/>
                </a:solidFill>
                <a:latin typeface="Trebuchet MS"/>
              </a:rPr>
              <a:t>Final de paseíllo en una corrida de toros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457200" y="15998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Madrid se encuentra en el centro de la Península Ibérica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El río principal que se encuentra en Madrid es el Río Manzanares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600" spc="-1" strike="noStrike">
                <a:solidFill>
                  <a:srgbClr val="000000"/>
                </a:solidFill>
                <a:latin typeface="Trebuchet MS"/>
              </a:rPr>
              <a:t>La montaña mas alta en Madrid es la Peñalara con una altura de 2428 metros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5105520" y="4343400"/>
            <a:ext cx="2895480" cy="21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Madrid siempre he estado ocupado desde los tiempos prehistórico y todavía hay restos arqueológico de pueblos pequeño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En 1383 León VI de Armenia, le dieron el titulo de Señor de Madrid por el Rey John I de Castill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espués de muchos anos y la guerra de independencia, Fernanda VII vino para atrás para su tron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Durante el dictadura de Francisco Franco, muchas de las cosas en Madrid fueron industrializadas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R" sz="2200" spc="-1" strike="noStrike">
                <a:solidFill>
                  <a:srgbClr val="000000"/>
                </a:solidFill>
                <a:latin typeface="Trebuchet MS"/>
              </a:rPr>
              <a:t>Y en 2004 Madrid fue dado por un ataque terrorista, cuando los terroristas pusieron muchas bombas en muchos trenes durante la hora la mayor tráfico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0:25:50Z</dcterms:created>
  <dc:creator>Mike</dc:creator>
  <dc:description/>
  <dc:language>en-US</dc:language>
  <cp:lastModifiedBy>Mike</cp:lastModifiedBy>
  <dcterms:modified xsi:type="dcterms:W3CDTF">2010-03-28T12:29:24Z</dcterms:modified>
  <cp:revision>9</cp:revision>
  <dc:subject/>
  <dc:title>¡La Fiesta brava!</dc:title>
</cp:coreProperties>
</file>