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DD4-7960-4555-AD8A-F84CD3A8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D56-552A-409C-A41B-118AFF21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9786-231F-4536-AE31-6E60FBC3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7521-E6BA-484E-BB8F-D86B5758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E346-5BED-4C81-9BBA-DC1533E4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0650-946A-4E41-AFEF-4FACEB24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10DD-A6A8-499B-BEE7-0B6D8DFF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FB22-9E36-4FE2-89D9-F707BA6C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FF34-3CB2-4A7A-BFE9-D666313B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5675-CFF6-4C34-9393-B4595A26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1151-AA3C-441A-9E69-05480941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B16B-DAC9-47B6-837F-0CEC9E06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4178-A1AB-4049-B351-3FE5145B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9786-D0B8-40FE-AC90-4D111695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6CF0-7B10-4DAA-9FF5-5F4E62BD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5AD3-8F6D-4E28-BC9C-7A9C3F16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1B3F-10B5-4D5C-8F36-EC342461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2A2BB-0633-4BDD-A8C3-E264CA9D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11428-4FCD-47A7-9801-7FFE63D2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544E2-99F6-4F31-BC5C-61D80393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E0E2F-29F5-4D7C-B692-88D5E720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BF2F6-E0E9-4744-970A-B267AC20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2B8-87B9-4CB5-8BB7-B495ECBB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28B03-E769-4074-A0DE-3576F318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59916-02C2-4341-8A74-0D2512A6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37C16-7525-4940-A238-FE9E5BF6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37014-CD40-4F58-B80C-1A7EEAC0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82DC0-94A7-4A43-930A-E0E07072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1575E-5657-488D-84D0-A41B1F88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DF4B-5317-4F50-ABED-F737153E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4CE50-09C8-413D-BF6A-DB7B8FF9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9750D-A21C-4ADE-9D23-EA472CBD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6B038-B4C3-4FA5-83BD-F9A0449D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F94-FE25-4EDD-9047-E224024D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64049-8FC8-4393-B616-40B3AC10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61F87-BC40-4E4C-8D5F-07C7760E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596E4-40D4-4E1F-989E-55BE4279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53427-82E5-49CF-A361-59DA0563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0B673-2416-4677-A7CD-18063887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6E992-1F77-4BCF-BC75-C29B6A59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C476B-6E3F-43E5-9F61-BD5BE567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8FA7E-67F9-4DFD-945B-B15B10B5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32877-1C55-4814-9936-472DBD18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CF615-761A-40EC-ACC6-E6B04895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5BA-EBC8-4450-BDB7-D4120002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C18DB-CF8F-4FAB-885B-24D2E6D0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02500-F6B1-45C0-A7FC-7C4FF80C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3952C-B919-4CE8-8D10-F7C9BE3A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5EDD9-3D75-4E1E-94BA-0032D1CF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3C265-28A3-4EAA-9DC2-39E98D01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91412-4ECC-4EEB-9502-62EFA7C8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4CFA3-84FF-4B1C-8727-868FBA49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947C2-BD85-4E09-B67E-CBFC79A8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BED67-D4EF-46A0-8DB7-D5685D19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A567A-4284-46EB-82FD-7A9F2E13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6CC-57E3-4A73-AC8F-55B1DFD5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AE813-DFFE-40E2-A8C9-AED17F1F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68F-C4EC-4207-9EBE-BC32BE9A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E70-A892-491B-9456-52A4FC5D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89C-F984-4DB3-8685-D4E79EBA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9066-64EE-4580-9B01-7781F5DDC18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3D04-2915-49D1-A066-CDD7F9CB0A9C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2279-0DAA-457F-96F1-50BD72DAA55F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67C1-FCF3-4F81-BBA6-95C2C75E0762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9ECA-A561-4EAC-AEA9-19B8EFE86E5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upload.wikimedia.org/wikipedia/commons/4/4d/Knossos_bull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upload.wikimedia.org/wikipedia/commons/f/fc/CorridaTorosDesfile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Jessica Pugnali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Katherine Batt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una gran parte de la cultura de España, México, y otros país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un modo en que personas pueden hacer más dinero para mejorar la economía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l toro normalmente vive solo un año antes que es matado para carne pero si es parte de la corrida de los toros puede vivir por 4-5 año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l toro es tratado con respecto y bondad durante los 4-5 año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3" descr="http://2.bp.blogspot.com/_XVvZjrHolXE/Sy-1llJSvjI/AAAAAAAAB4M/vIkFSD4xxWc/s400/toro.jpg"/>
          <p:cNvPicPr/>
          <p:nvPr/>
        </p:nvPicPr>
        <p:blipFill>
          <a:blip r:embed="rId2"/>
          <a:stretch/>
        </p:blipFill>
        <p:spPr>
          <a:xfrm>
            <a:off x="4800600" y="4419720"/>
            <a:ext cx="28576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Un con es que el deporte es muy fatal para los tor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tro es que antes de las carreras los toros están en un corral que no tiene ni luz del día, los toros están sin comida y sin agua. 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os matadores usualmente salen de la carreras con daño fiscal en sus cuerp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3" descr="http://entrenomadas.files.wordpress.com/2007/09/corridas_toros_nomastortura1.jpg"/>
          <p:cNvPicPr/>
          <p:nvPr/>
        </p:nvPicPr>
        <p:blipFill>
          <a:blip r:embed="rId2"/>
          <a:stretch/>
        </p:blipFill>
        <p:spPr>
          <a:xfrm>
            <a:off x="3733920" y="44197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29844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Tauromaquia” es otra palabra para el toreo que ocurre en países españoles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Esa actividad tiene antecedentes desde la “Edad de Bronce” y se ha desarrollado en una forma de demonstración de valentía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Desde el siglo XX el toreo es mas que solo una lucha contra el matador y el toro. Es la crianza y el conocimiento de los toros desde que son niño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3" descr="Archivo:Knossos bul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572000"/>
            <a:ext cx="3618000" cy="18288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4572000" y="472428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1800" spc="-1" strike="noStrike">
                <a:solidFill>
                  <a:srgbClr val="000000"/>
                </a:solidFill>
                <a:latin typeface="Trebuchet MS"/>
              </a:rPr>
              <a:t>El arte del toreo en los tiempos donde acróbatas “danzaban” con los toros en parte de la corrida de los to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Trebuchet MS"/>
              </a:rPr>
              <a:t>Tiene dos tipos de corrida de toros: de toreros de pie y de toreros a caballo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Trebuchet MS"/>
              </a:rPr>
              <a:t>La corrida es separada en tres parte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1. El toro es lidiado por los picadores (ellos usan una vara con una puya para castigar el toro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2. Después es lidiado por los banderilleros (bregan al toro y adornan al toro colocando pares de banderillas)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3. Finalmente, es lidiado por el torero ayudando con la “muleta” y el “ayudado” que es una espada de madera o de aluminio que sostiene con la mano derecha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5" name="Content Placeholder 3" descr="Archivo:CorridaTorosDesfi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523880"/>
            <a:ext cx="6705720" cy="4267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609480" y="60958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1800" spc="-1" strike="noStrike">
                <a:solidFill>
                  <a:srgbClr val="000000"/>
                </a:solidFill>
                <a:latin typeface="Trebuchet MS"/>
              </a:rPr>
              <a:t>Final de paseíllo en una corrida de tor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Madrid se encuentra en el centro de la Península Ibérica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El río principal que se encuentra en Madrid es el Río Manzanar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La montaña mas alta en Madrid es la Peñalara con una altura de 2428 metro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Madrid siempre he estado ocupado desde los tiempos prehistórico y todavía hay restos arqueológico de pueblos pequeño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En 1383 León VI de Armenia, le dieron el titulo de Señor de Madrid por el Rey John I de Castill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Después de muchos anos y la guerra de independencia, Fernanda VII vino para atrás para su tron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Durante el dictadura de Francisco Franco, muchas de las cosas en Madrid fueron industrializada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Y en 2004 Madrid fue dado por un ataque terrorista, cuando los terroristas pusieron muchas bombas en muchos trenes durante la hora la mayor tráfic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0:25:50Z</dcterms:created>
  <dc:creator>Mike</dc:creator>
  <dc:description/>
  <dc:language>en-US</dc:language>
  <cp:lastModifiedBy>Mike</cp:lastModifiedBy>
  <dcterms:modified xsi:type="dcterms:W3CDTF">2010-03-28T12:29:24Z</dcterms:modified>
  <cp:revision>9</cp:revision>
  <dc:subject/>
  <dc:title>¡La Fiesta brava!</dc:title>
</cp:coreProperties>
</file>